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E2EE-4C1B-4EDA-AE92-6EDC3AF2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n idea on the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2CB0-41F9-4B0F-8BD8-6CA85C15675C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741-1D71-4BAB-A0AB-8872FA00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283-A6A4-485E-B652-2FF6A46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23F7E-892C-4D2C-88DC-E56F6683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09A80-4128-46E5-9699-382E31E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CBD54-18F9-4E9D-8B8C-51FBC2C7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3A979-A299-4DEC-ABDC-45D9915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0A8B2-F922-41FD-95C4-1359E40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DE76-9D3C-4E3F-8724-833D326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16D56-FE7E-4664-80FC-FE2B636D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6170-D608-48B1-8D24-1980AEB6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374E5-7117-44F6-BD73-295DC49D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4DFA4-9635-4CA8-BE69-806AB8A4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C6A-3DC2-4498-8B9A-75EDEF2E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CBAD9-B02E-4240-BBF6-27CD55C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ABE3F-154F-4120-903E-9C3CD04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656B2-9028-4546-99C5-6D750645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73CDA-D7C4-4DFE-BEF1-7B896116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3C83F-EBF8-4AFA-9FF1-3FF3854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DAB70-D6A3-4EA8-BC41-18045A4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8A919-D9FE-4C34-9A37-44CE4E1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2AAA9-495A-482C-A06C-0F7CB8B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618A5-C1B4-4497-A60D-DEEEA6DD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64E4D-6004-497E-BE72-38D27EC8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CCE-1204-4C17-8903-1F101B64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4321D-909C-4968-BD6F-F8761C6D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C8A37-5122-443F-B67F-A96E5D1C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F5D18-931C-4673-AF5A-8661EA83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9DECD-1312-4EE2-BA48-157CC633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AC063-1A1B-49BF-BAD8-54FC7787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BA53-87F7-44B6-81BC-A3D7363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E0ACC-B58B-4DFC-AD6C-3D66DD8E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8A0E-66D2-465D-9E8B-7E417C96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CFFB-54AA-470E-8C57-08515F8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2DE6-1EF4-471D-BCB7-BB2AF21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E60B4-F064-4CAA-85FF-DB991CE4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9D83A-F7FB-45C7-AF7C-42AD6C7D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D682C-E683-4DA9-BC6A-59461271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5683D-6AB2-4E58-A902-A747E417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88D6-AC48-414A-A345-01FB0B07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EF80B-552B-4516-8F1B-CFC7E0C7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A8F74-5F5C-4B88-BC3F-60503F27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1CCA9-E338-4DF4-99D7-E21F0041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A1C07-394E-4671-BEA6-90C41BA3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36297-6468-48DC-A345-BDF0B601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A6BA3-7799-4969-9C0F-6D7233C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EE2D8-26E6-4B7C-935F-9828A6E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9810D-48FC-4AB2-B118-B7C6D87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0D4C8-BD83-4581-910D-9234B2C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ED3D3-4EE2-4F77-8024-7BF4E72C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4F03B-4EBA-4097-88AD-3CA2CBB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5B65-BA17-4AFE-8637-6990131A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F2F85-4819-4645-8AFC-899ED32E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93D7B-CBEB-4518-9B13-B4CEAB0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2206A-785D-4B70-9971-E70A975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C8FD0-D7B7-4C1F-A2EA-18CF053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8C97-C2EE-44D7-BCA5-562EA31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CA0-520F-401B-8A1E-90A4159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1663-8592-49E5-8F3D-30C6818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DC95-FDB9-4737-97A2-3683784D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408D-42E0-4040-8852-FCE65DC0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6E597-EF92-4124-A5A1-23FD5B68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11247-D1FF-4727-A14D-E1D50EBE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058F-D1E2-47B8-A67F-4E1109E9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21F1-7C80-4AD3-8850-BC4E6957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4B97-631B-4D30-9114-2005757F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F63E-F9D2-47A4-97B4-3CCD257E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B750-DB78-4156-AB6E-95B980E8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CB3-E268-4D40-9523-EA25D9DB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2112-0A88-4158-93BD-F8A2A26F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DA6D-BBD9-4F83-8792-40F864E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6D1D-CA13-4456-8A6F-5E6D51E7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23C7-12E6-43C3-87D3-127FD48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21B7-5B87-43B4-A8C4-04AFCB8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E3CC-D938-47EF-ACCC-8189FCA7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42D4-3C59-4252-9026-E7BAB79A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2E36-C518-423C-A63D-584ED10A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DA8F-0E94-40F2-90AA-AD0D8B11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65AD-052A-4C65-8D0E-9F4A856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BD0-70A4-4831-BB78-5811E107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61CC-8CC6-4622-8E51-55ACCBF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43DE-76DC-4F0A-BDE0-7A514C2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0EBB-0383-478B-8DB9-3A461F2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D668-1CB8-48E4-9A84-F929EE0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306D-D682-43CC-97BD-700449A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697D-112A-4767-AAE3-57F9B56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D11C-EDD6-425D-809D-A8CB3B6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6CA6-E0DD-4E98-B423-34BEC303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FB62-5FD0-4FC3-B1E1-BF93BB3D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E5CE-23BC-42A0-B769-0A7E4EF3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6F8-59F2-45B5-985A-54B7CD9B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9F08-DD28-4371-AB6F-4532ED93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0E6E-72AE-4BE3-9441-88830E1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FC4D-D098-4E22-AD54-D4EBEFB3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68AC3-AF4E-499E-9C68-AD3B258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5D6C3-7ECB-42D0-9384-3C455A2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6E66-A978-4F55-8053-038F608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6A42E-7AA1-423C-AC4F-1935D049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4D80-6B07-42AA-A716-5EE532D4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7C217-8784-4BC2-865E-90D0F09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FD62-0EB0-4B3C-9309-1FC3C083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008-8F46-4710-962C-02758F50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2F40-848E-446B-81F4-8DFD37D1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A68B-11FD-4B3D-A396-442F1ED8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9040-CABD-4EFB-9A10-5B60CC0F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2D38-07CE-495B-A099-05AA1B4C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3D218-1B9A-44EC-8341-0D5395A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A5EC-960C-43DB-A4BB-F34F193D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9AC0-4049-49D1-A945-62C17B2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5A10-E027-4669-B499-A1E27A3C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2C09A-DA69-4184-8200-DBC2707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C023-70B4-44F1-8D47-B7B2113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D6E-BA48-4746-BECA-39723EA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665FC-D6B8-40D4-B3A1-93AAE03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E19D-DF19-4F35-BBE7-FA0107AD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2C841-7FE1-4DFB-8121-7CDABC5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522E-E618-476B-9300-3D0B431A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4E15-0634-4011-B0AE-DFFF3033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B8BE1-B66B-4FD0-A355-12539393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E322A-2576-454A-82D7-6D34BFCC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8183-C680-4EDF-9295-82739A77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B9BD-106C-4DAD-97B8-7811210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94F2-99ED-4766-95B8-343D7BD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19F-5776-4F7B-ADEC-21D4291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70457-0DC0-4746-8C87-80A97F6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FC56-444D-4797-ACF6-D33E246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950EE-D1C3-4347-9596-875113D9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EBE2-EAB3-45B3-A65A-FB665F15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7690-47CC-44C0-B9A1-48101CBA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1DBCE-31C3-4B32-B653-808B4DFC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F87DB-275F-4863-A47A-C2D7DC5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32AD-E651-4D41-B28B-157A7E68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EE701-0C75-4405-A87C-20C723D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6E322-D416-4F01-94B8-52026CEE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7B6-D6C0-4F7E-B9E7-58F7E13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59EF-A80F-4E1A-B169-592AC145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1B37C-3604-4353-AC4B-3EF381FC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379F-4787-457B-A2CF-5FC07C1F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E3FCC-03D8-48FB-98AD-0C99E69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00E0F-1028-43BC-A113-9D3BEAE9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B2ED-D1D5-4D57-A889-28DA1071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97C92-BB52-4603-BAF0-AF2B0F3A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3CE22-8623-4F9A-A91E-DA3DB0E0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62990-0B51-4569-9AEE-C2D371D6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FD17F-8487-4C8E-BB49-52AD8CC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7AB0-6224-4770-A66E-DF0F5135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27DA-B02A-4DA9-8E9C-CF9908505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5B1-CD23-43BD-9E8B-5FB00BAC2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705360" y="64008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2.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6"/>
          </p:nvPr>
        </p:nvSpPr>
        <p:spPr>
          <a:xfrm>
            <a:off x="-36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370A-94FE-4BFC-A97B-C37ADE79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822-1CFE-436E-B99C-2B5AAB547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A854-EF72-4CA0-BCA6-2B3C3E234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EB7-4017-417A-B395-4840C2F45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731520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3815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A958-E5F8-428D-B8CA-5286F8203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385F-A175-46F1-BAF0-34ED14C96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8A55-B72B-47D5-8F02-F2EB03C43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ffective Training: Systems, Strategies and Practices,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Ed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Tw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Nick Blanchard and  James W. Th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2-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1A7CB8C1-6D3C-4905-B91D-C0BA3F3EEC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Questions to Assess Training Provider Capabilities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1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3" name="Diagram 12" descr=""/>
          <p:cNvPicPr/>
          <p:nvPr/>
        </p:nvPicPr>
        <p:blipFill>
          <a:blip r:embed="rId1"/>
          <a:stretch/>
        </p:blipFill>
        <p:spPr>
          <a:xfrm>
            <a:off x="981000" y="2560680"/>
            <a:ext cx="7534440" cy="468360"/>
          </a:xfrm>
          <a:prstGeom prst="rect">
            <a:avLst/>
          </a:prstGeom>
          <a:ln w="0">
            <a:noFill/>
          </a:ln>
        </p:spPr>
      </p:pic>
      <p:pic>
        <p:nvPicPr>
          <p:cNvPr id="714" name="Diagram 13" descr=""/>
          <p:cNvPicPr/>
          <p:nvPr/>
        </p:nvPicPr>
        <p:blipFill>
          <a:blip r:embed="rId2"/>
          <a:stretch/>
        </p:blipFill>
        <p:spPr>
          <a:xfrm>
            <a:off x="987480" y="3090960"/>
            <a:ext cx="7527960" cy="742680"/>
          </a:xfrm>
          <a:prstGeom prst="rect">
            <a:avLst/>
          </a:prstGeom>
          <a:ln w="0">
            <a:noFill/>
          </a:ln>
        </p:spPr>
      </p:pic>
      <p:pic>
        <p:nvPicPr>
          <p:cNvPr id="715" name="Diagram 11" descr=""/>
          <p:cNvPicPr/>
          <p:nvPr/>
        </p:nvPicPr>
        <p:blipFill>
          <a:blip r:embed="rId3"/>
          <a:stretch/>
        </p:blipFill>
        <p:spPr>
          <a:xfrm>
            <a:off x="987480" y="3943440"/>
            <a:ext cx="7527960" cy="750960"/>
          </a:xfrm>
          <a:prstGeom prst="rect">
            <a:avLst/>
          </a:prstGeom>
          <a:ln w="0">
            <a:noFill/>
          </a:ln>
        </p:spPr>
      </p:pic>
      <p:pic>
        <p:nvPicPr>
          <p:cNvPr id="716" name="Diagram 10" descr=""/>
          <p:cNvPicPr/>
          <p:nvPr/>
        </p:nvPicPr>
        <p:blipFill>
          <a:blip r:embed="rId4"/>
          <a:stretch/>
        </p:blipFill>
        <p:spPr>
          <a:xfrm>
            <a:off x="981000" y="4816440"/>
            <a:ext cx="7572600" cy="9255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7"/>
          <p:cNvSpPr/>
          <p:nvPr/>
        </p:nvSpPr>
        <p:spPr>
          <a:xfrm>
            <a:off x="1066680" y="556092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9D33BFB7-2135-4583-BA13-5F9F94A694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Questions to Assess Training Provider Capabilities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2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21" name="Diagram 9" descr=""/>
          <p:cNvPicPr/>
          <p:nvPr/>
        </p:nvPicPr>
        <p:blipFill>
          <a:blip r:embed="rId1"/>
          <a:stretch/>
        </p:blipFill>
        <p:spPr>
          <a:xfrm>
            <a:off x="590400" y="2146320"/>
            <a:ext cx="7772400" cy="596880"/>
          </a:xfrm>
          <a:prstGeom prst="rect">
            <a:avLst/>
          </a:prstGeom>
          <a:ln w="0">
            <a:noFill/>
          </a:ln>
        </p:spPr>
      </p:pic>
      <p:pic>
        <p:nvPicPr>
          <p:cNvPr id="722" name="Diagram 11" descr=""/>
          <p:cNvPicPr/>
          <p:nvPr/>
        </p:nvPicPr>
        <p:blipFill>
          <a:blip r:embed="rId2"/>
          <a:stretch/>
        </p:blipFill>
        <p:spPr>
          <a:xfrm>
            <a:off x="1060560" y="2584440"/>
            <a:ext cx="6462720" cy="1158840"/>
          </a:xfrm>
          <a:prstGeom prst="rect">
            <a:avLst/>
          </a:prstGeom>
          <a:ln w="0">
            <a:noFill/>
          </a:ln>
        </p:spPr>
      </p:pic>
      <p:pic>
        <p:nvPicPr>
          <p:cNvPr id="723" name="Diagram 15" descr=""/>
          <p:cNvPicPr/>
          <p:nvPr/>
        </p:nvPicPr>
        <p:blipFill>
          <a:blip r:embed="rId3"/>
          <a:stretch/>
        </p:blipFill>
        <p:spPr>
          <a:xfrm>
            <a:off x="536400" y="5583240"/>
            <a:ext cx="7901280" cy="708120"/>
          </a:xfrm>
          <a:prstGeom prst="rect">
            <a:avLst/>
          </a:prstGeom>
          <a:ln w="0">
            <a:noFill/>
          </a:ln>
        </p:spPr>
      </p:pic>
      <p:pic>
        <p:nvPicPr>
          <p:cNvPr id="724" name="Diagram 14" descr=""/>
          <p:cNvPicPr/>
          <p:nvPr/>
        </p:nvPicPr>
        <p:blipFill>
          <a:blip r:embed="rId4"/>
          <a:stretch/>
        </p:blipFill>
        <p:spPr>
          <a:xfrm>
            <a:off x="549360" y="4621320"/>
            <a:ext cx="7888320" cy="858600"/>
          </a:xfrm>
          <a:prstGeom prst="rect">
            <a:avLst/>
          </a:prstGeom>
          <a:ln w="0">
            <a:noFill/>
          </a:ln>
        </p:spPr>
      </p:pic>
      <p:pic>
        <p:nvPicPr>
          <p:cNvPr id="725" name="Diagram 13" descr=""/>
          <p:cNvPicPr/>
          <p:nvPr/>
        </p:nvPicPr>
        <p:blipFill>
          <a:blip r:embed="rId5"/>
          <a:stretch/>
        </p:blipFill>
        <p:spPr>
          <a:xfrm>
            <a:off x="549360" y="3700440"/>
            <a:ext cx="7888320" cy="86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4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838188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FF49F524-0ECB-4E57-BCDB-95FA8582E3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mall Business Owners Reasons for Not Planning Strategicall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2599920"/>
            <a:ext cx="2438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enough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amilia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tr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4724280" y="1905120"/>
            <a:ext cx="3902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4572000" y="20574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5927760" y="1760400"/>
            <a:ext cx="275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7"/>
          <p:cNvSpPr/>
          <p:nvPr/>
        </p:nvSpPr>
        <p:spPr>
          <a:xfrm rot="10800000">
            <a:off x="2971440" y="2418120"/>
            <a:ext cx="53341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busy with day-to-day operations and concerns about tomorrow are the excuses for not planning for next year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ck of awareness of strategic planning or failure to see its value. See it as limiting flexibility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 have the skills or time to learn them. Do not wish to spend money to bring in consultants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nt to keep key information confidential. Do not wish to share this information with other employees or outsider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5867280" y="266688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2ABFC04C-F666-4E73-BCF6-1733557AA5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rategic Questions for Small Busin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914400" y="2057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are we in busines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914400" y="25290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key things we are trying to achieve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914400" y="304812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o is our competition and how can we beat them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914400" y="350028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ground rules should we be following to get the jo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ne right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914400" y="42163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should we organize ourselves to reach our goals and be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etition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914400" y="497844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much detail do we need to provide so everyone knows what to                              do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How do we make sure everyone gets the information?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914400" y="556272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few key things that will determine if we make it?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                        we address and keep track of them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C848-6A16-4AF5-9EB8-B8981CB0A9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inkage between Strategy, Tactics, and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3" name="Picture 33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46"/>
          <p:cNvSpPr/>
          <p:nvPr/>
        </p:nvSpPr>
        <p:spPr>
          <a:xfrm>
            <a:off x="3200400" y="2209680"/>
            <a:ext cx="5410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Activit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Rectangle 48"/>
          <p:cNvSpPr/>
          <p:nvPr/>
        </p:nvSpPr>
        <p:spPr>
          <a:xfrm>
            <a:off x="804960" y="2209680"/>
            <a:ext cx="19047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" name="Group 59"/>
          <p:cNvGrpSpPr/>
          <p:nvPr/>
        </p:nvGrpSpPr>
        <p:grpSpPr>
          <a:xfrm>
            <a:off x="2709720" y="3295800"/>
            <a:ext cx="2014560" cy="914400"/>
            <a:chOff x="2709720" y="3295800"/>
            <a:chExt cx="2014560" cy="914400"/>
          </a:xfrm>
        </p:grpSpPr>
        <p:sp>
          <p:nvSpPr>
            <p:cNvPr id="597" name="Rectangle 49"/>
            <p:cNvSpPr/>
            <p:nvPr/>
          </p:nvSpPr>
          <p:spPr>
            <a:xfrm>
              <a:off x="3276720" y="3295800"/>
              <a:ext cx="14475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52"/>
            <p:cNvSpPr/>
            <p:nvPr/>
          </p:nvSpPr>
          <p:spPr>
            <a:xfrm>
              <a:off x="2709720" y="3772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" name="Group 60"/>
          <p:cNvGrpSpPr/>
          <p:nvPr/>
        </p:nvGrpSpPr>
        <p:grpSpPr>
          <a:xfrm>
            <a:off x="4724280" y="3333600"/>
            <a:ext cx="1981440" cy="914400"/>
            <a:chOff x="4724280" y="3333600"/>
            <a:chExt cx="1981440" cy="914400"/>
          </a:xfrm>
        </p:grpSpPr>
        <p:sp>
          <p:nvSpPr>
            <p:cNvPr id="600" name="Rectangle 50"/>
            <p:cNvSpPr/>
            <p:nvPr/>
          </p:nvSpPr>
          <p:spPr>
            <a:xfrm>
              <a:off x="5257800" y="3333600"/>
              <a:ext cx="14479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Tactic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53"/>
            <p:cNvSpPr/>
            <p:nvPr/>
          </p:nvSpPr>
          <p:spPr>
            <a:xfrm>
              <a:off x="4724280" y="37339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Group 61"/>
          <p:cNvGrpSpPr/>
          <p:nvPr/>
        </p:nvGrpSpPr>
        <p:grpSpPr>
          <a:xfrm>
            <a:off x="6705720" y="3333600"/>
            <a:ext cx="1990440" cy="914400"/>
            <a:chOff x="6705720" y="3333600"/>
            <a:chExt cx="1990440" cy="914400"/>
          </a:xfrm>
        </p:grpSpPr>
        <p:sp>
          <p:nvSpPr>
            <p:cNvPr id="603" name="Rectangle 51"/>
            <p:cNvSpPr/>
            <p:nvPr/>
          </p:nvSpPr>
          <p:spPr>
            <a:xfrm>
              <a:off x="7248600" y="3333600"/>
              <a:ext cx="14475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ctive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54"/>
            <p:cNvSpPr/>
            <p:nvPr/>
          </p:nvSpPr>
          <p:spPr>
            <a:xfrm>
              <a:off x="6705720" y="38098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5" name="Group 62"/>
          <p:cNvGrpSpPr/>
          <p:nvPr/>
        </p:nvGrpSpPr>
        <p:grpSpPr>
          <a:xfrm>
            <a:off x="838080" y="4267080"/>
            <a:ext cx="7772400" cy="1828800"/>
            <a:chOff x="838080" y="4267080"/>
            <a:chExt cx="7772400" cy="1828800"/>
          </a:xfrm>
        </p:grpSpPr>
        <p:sp>
          <p:nvSpPr>
            <p:cNvPr id="606" name="Rectangle 47"/>
            <p:cNvSpPr/>
            <p:nvPr/>
          </p:nvSpPr>
          <p:spPr>
            <a:xfrm>
              <a:off x="838080" y="5410080"/>
              <a:ext cx="7772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lementation, Evaluation, and Feedback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55"/>
            <p:cNvSpPr/>
            <p:nvPr/>
          </p:nvSpPr>
          <p:spPr>
            <a:xfrm>
              <a:off x="1828800" y="4724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56"/>
            <p:cNvSpPr/>
            <p:nvPr/>
          </p:nvSpPr>
          <p:spPr>
            <a:xfrm>
              <a:off x="3943440" y="4305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57"/>
            <p:cNvSpPr/>
            <p:nvPr/>
          </p:nvSpPr>
          <p:spPr>
            <a:xfrm>
              <a:off x="5943600" y="426708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58"/>
            <p:cNvSpPr/>
            <p:nvPr/>
          </p:nvSpPr>
          <p:spPr>
            <a:xfrm>
              <a:off x="7924680" y="426708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8B7B9B1B-3A5B-4FA9-BD92-A2BC10AA7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actors Influencing Environmental Stabi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066680" y="1762200"/>
          <a:ext cx="7239240" cy="4795920"/>
        </p:xfrm>
        <a:graphic>
          <a:graphicData uri="http://schemas.openxmlformats.org/drawingml/2006/table">
            <a:tbl>
              <a:tblPr/>
              <a:tblGrid>
                <a:gridCol w="831960"/>
                <a:gridCol w="1301760"/>
                <a:gridCol w="2292480"/>
                <a:gridCol w="2813040"/>
              </a:tblGrid>
              <a:tr h="520560">
                <a:tc gridSpan="4">
                  <a:txBody>
                    <a:bodyPr lIns="54864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lexit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52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Text Box 142"/>
          <p:cNvSpPr/>
          <p:nvPr/>
        </p:nvSpPr>
        <p:spPr>
          <a:xfrm>
            <a:off x="3124080" y="4876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43"/>
          <p:cNvSpPr/>
          <p:nvPr/>
        </p:nvSpPr>
        <p:spPr>
          <a:xfrm>
            <a:off x="5638680" y="4876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144"/>
          <p:cNvSpPr/>
          <p:nvPr/>
        </p:nvSpPr>
        <p:spPr>
          <a:xfrm>
            <a:off x="5638680" y="3200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145"/>
          <p:cNvSpPr/>
          <p:nvPr/>
        </p:nvSpPr>
        <p:spPr>
          <a:xfrm>
            <a:off x="3200400" y="3200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ABFFCCB3-F81C-4696-AF90-C80B593D53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ission, Strategy, Technology, Structure Relationshi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22" name="Object 34"/>
          <p:cNvGraphicFramePr/>
          <p:nvPr/>
        </p:nvGraphicFramePr>
        <p:xfrm>
          <a:off x="762120" y="1981080"/>
          <a:ext cx="72579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257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0E93A6BF-C6D3-4D45-8DFE-A7F30135F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rategy Development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f Different Leve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3657600" y="1905120"/>
            <a:ext cx="2286000" cy="3045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ernal Environm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AutoShape 37"/>
          <p:cNvSpPr/>
          <p:nvPr/>
        </p:nvSpPr>
        <p:spPr>
          <a:xfrm>
            <a:off x="3200400" y="3048120"/>
            <a:ext cx="2209680" cy="66204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AutoShape 38"/>
          <p:cNvSpPr/>
          <p:nvPr/>
        </p:nvSpPr>
        <p:spPr>
          <a:xfrm>
            <a:off x="2743200" y="4724280"/>
            <a:ext cx="3962520" cy="11430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MAN RESOURCE STRATEGY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RD Strategy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772400" y="5943600"/>
            <a:ext cx="1143000" cy="4572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228600" y="5791320"/>
            <a:ext cx="1143000" cy="4572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380880" y="2209680"/>
            <a:ext cx="1011240" cy="5335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5562720" y="3809880"/>
            <a:ext cx="200160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loyee KSA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bor Relation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Cultur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733920" y="4114800"/>
            <a:ext cx="1753920" cy="2840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e Technology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62"/>
          <p:cNvSpPr/>
          <p:nvPr/>
        </p:nvSpPr>
        <p:spPr>
          <a:xfrm flipV="1">
            <a:off x="47242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66"/>
          <p:cNvSpPr/>
          <p:nvPr/>
        </p:nvSpPr>
        <p:spPr>
          <a:xfrm flipV="1"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72"/>
          <p:cNvSpPr/>
          <p:nvPr/>
        </p:nvSpPr>
        <p:spPr>
          <a:xfrm>
            <a:off x="4038480" y="594360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’s internal                       Environment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73"/>
          <p:cNvSpPr/>
          <p:nvPr/>
        </p:nvSpPr>
        <p:spPr>
          <a:xfrm>
            <a:off x="7772400" y="2209680"/>
            <a:ext cx="1143000" cy="5335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al Environmen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Oval 78"/>
          <p:cNvSpPr/>
          <p:nvPr/>
        </p:nvSpPr>
        <p:spPr>
          <a:xfrm>
            <a:off x="1447920" y="2514600"/>
            <a:ext cx="6705360" cy="39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Rectangle 85"/>
          <p:cNvSpPr/>
          <p:nvPr/>
        </p:nvSpPr>
        <p:spPr>
          <a:xfrm>
            <a:off x="3657600" y="5562720"/>
            <a:ext cx="2057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87"/>
          <p:cNvSpPr/>
          <p:nvPr/>
        </p:nvSpPr>
        <p:spPr>
          <a:xfrm>
            <a:off x="3276720" y="4800600"/>
            <a:ext cx="2819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90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Line 91"/>
          <p:cNvSpPr/>
          <p:nvPr/>
        </p:nvSpPr>
        <p:spPr>
          <a:xfrm>
            <a:off x="45720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Line 92"/>
          <p:cNvSpPr/>
          <p:nvPr/>
        </p:nvSpPr>
        <p:spPr>
          <a:xfrm>
            <a:off x="53341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Line 94"/>
          <p:cNvSpPr/>
          <p:nvPr/>
        </p:nvSpPr>
        <p:spPr>
          <a:xfrm flipH="1" flipV="1">
            <a:off x="525744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Line 95"/>
          <p:cNvSpPr/>
          <p:nvPr/>
        </p:nvSpPr>
        <p:spPr>
          <a:xfrm flipH="1">
            <a:off x="5181120" y="44197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97"/>
          <p:cNvSpPr/>
          <p:nvPr/>
        </p:nvSpPr>
        <p:spPr>
          <a:xfrm>
            <a:off x="4267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98"/>
          <p:cNvSpPr/>
          <p:nvPr/>
        </p:nvSpPr>
        <p:spPr>
          <a:xfrm>
            <a:off x="47242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99"/>
          <p:cNvSpPr/>
          <p:nvPr/>
        </p:nvSpPr>
        <p:spPr>
          <a:xfrm flipV="1">
            <a:off x="1219320" y="55623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100"/>
          <p:cNvSpPr/>
          <p:nvPr/>
        </p:nvSpPr>
        <p:spPr>
          <a:xfrm flipH="1" flipV="1">
            <a:off x="7467120" y="5790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01"/>
          <p:cNvSpPr/>
          <p:nvPr/>
        </p:nvSpPr>
        <p:spPr>
          <a:xfrm>
            <a:off x="137160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102"/>
          <p:cNvSpPr/>
          <p:nvPr/>
        </p:nvSpPr>
        <p:spPr>
          <a:xfrm flipH="1">
            <a:off x="7315200" y="2743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A1B6E4A9-B2F8-4F20-8BAF-9EDB1B535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Steps in a Generic Planned Change Model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1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066680" y="22096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 compelling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066680" y="2819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, in collaboration with the concerned parties, the goals                          to be achieved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066680" y="34480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what is causing the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1066680" y="4083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 Identify and evaluate alternative approaches for addressing the      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066680" y="500544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an approach for addressing the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1066680" y="56530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 the approach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A7874AB5-3FC4-492C-8CD5-1F6BFA493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Steps in a Generic Planned Change Model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2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066680" y="2514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result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066680" y="324648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ed back the results to the organiz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results are favorable, go to step 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results are unfavorable, go back to step 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066680" y="4876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lize the change. The changes made become routine and   the normal ways the organization conducts its busines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2685C1A1-BD5E-4EEA-9BF6-29F785298F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Differences Between OD Practitioners and Trainers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380880" y="2286000"/>
          <a:ext cx="8382240" cy="3886200"/>
        </p:xfrm>
        <a:graphic>
          <a:graphicData uri="http://schemas.openxmlformats.org/drawingml/2006/table">
            <a:tbl>
              <a:tblPr/>
              <a:tblGrid>
                <a:gridCol w="2928960"/>
                <a:gridCol w="2849760"/>
                <a:gridCol w="2603520"/>
              </a:tblGrid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ss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D Practition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in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e to problems with organizational politics, structure, etc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tional percep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Text Box 75"/>
          <p:cNvSpPr/>
          <p:nvPr/>
        </p:nvSpPr>
        <p:spPr>
          <a:xfrm>
            <a:off x="4191120" y="3048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76"/>
          <p:cNvSpPr/>
          <p:nvPr/>
        </p:nvSpPr>
        <p:spPr>
          <a:xfrm>
            <a:off x="7086600" y="30290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 Box 79"/>
          <p:cNvSpPr/>
          <p:nvPr/>
        </p:nvSpPr>
        <p:spPr>
          <a:xfrm>
            <a:off x="3809880" y="3809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 Box 80"/>
          <p:cNvSpPr/>
          <p:nvPr/>
        </p:nvSpPr>
        <p:spPr>
          <a:xfrm>
            <a:off x="6438960" y="37101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ddle to lower level        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81"/>
          <p:cNvSpPr/>
          <p:nvPr/>
        </p:nvSpPr>
        <p:spPr>
          <a:xfrm>
            <a:off x="3505320" y="4724280"/>
            <a:ext cx="26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llenge and confr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82"/>
          <p:cNvSpPr/>
          <p:nvPr/>
        </p:nvSpPr>
        <p:spPr>
          <a:xfrm>
            <a:off x="6553080" y="461016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k around or within th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83"/>
          <p:cNvSpPr/>
          <p:nvPr/>
        </p:nvSpPr>
        <p:spPr>
          <a:xfrm>
            <a:off x="3809880" y="556272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ly analy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84"/>
          <p:cNvSpPr/>
          <p:nvPr/>
        </p:nvSpPr>
        <p:spPr>
          <a:xfrm>
            <a:off x="6553080" y="5557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ts things 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63561359-F977-442D-BBBD-761F6EFAE6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Force-field analysis model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83" name="Group 23"/>
          <p:cNvGrpSpPr/>
          <p:nvPr/>
        </p:nvGrpSpPr>
        <p:grpSpPr>
          <a:xfrm>
            <a:off x="457200" y="1981080"/>
            <a:ext cx="6552720" cy="1951200"/>
            <a:chOff x="457200" y="1981080"/>
            <a:chExt cx="6552720" cy="1951200"/>
          </a:xfrm>
        </p:grpSpPr>
        <p:grpSp>
          <p:nvGrpSpPr>
            <p:cNvPr id="684" name="Group 4"/>
            <p:cNvGrpSpPr/>
            <p:nvPr/>
          </p:nvGrpSpPr>
          <p:grpSpPr>
            <a:xfrm>
              <a:off x="2244600" y="2391480"/>
              <a:ext cx="4442040" cy="1127520"/>
              <a:chOff x="2244600" y="2391480"/>
              <a:chExt cx="4442040" cy="1127520"/>
            </a:xfrm>
          </p:grpSpPr>
          <p:sp>
            <p:nvSpPr>
              <p:cNvPr id="685" name="Line 5"/>
              <p:cNvSpPr/>
              <p:nvPr/>
            </p:nvSpPr>
            <p:spPr>
              <a:xfrm>
                <a:off x="2244600" y="2955240"/>
                <a:ext cx="444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6"/>
              <p:cNvSpPr/>
              <p:nvPr/>
            </p:nvSpPr>
            <p:spPr>
              <a:xfrm>
                <a:off x="3108240" y="239148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3699360" y="2673360"/>
                <a:ext cx="0" cy="28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8"/>
              <p:cNvSpPr/>
              <p:nvPr/>
            </p:nvSpPr>
            <p:spPr>
              <a:xfrm>
                <a:off x="4218840" y="239148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9"/>
              <p:cNvSpPr/>
              <p:nvPr/>
            </p:nvSpPr>
            <p:spPr>
              <a:xfrm>
                <a:off x="5031000" y="2720520"/>
                <a:ext cx="0" cy="23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5648040" y="24854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Line 11"/>
              <p:cNvSpPr/>
              <p:nvPr/>
            </p:nvSpPr>
            <p:spPr>
              <a:xfrm>
                <a:off x="2589120" y="295524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Line 12"/>
              <p:cNvSpPr/>
              <p:nvPr/>
            </p:nvSpPr>
            <p:spPr>
              <a:xfrm>
                <a:off x="3193200" y="2955240"/>
                <a:ext cx="0" cy="28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Line 13"/>
              <p:cNvSpPr/>
              <p:nvPr/>
            </p:nvSpPr>
            <p:spPr>
              <a:xfrm>
                <a:off x="3568320" y="29552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Line 14"/>
              <p:cNvSpPr/>
              <p:nvPr/>
            </p:nvSpPr>
            <p:spPr>
              <a:xfrm>
                <a:off x="4393800" y="295524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Line 15"/>
              <p:cNvSpPr/>
              <p:nvPr/>
            </p:nvSpPr>
            <p:spPr>
              <a:xfrm>
                <a:off x="4899960" y="2955240"/>
                <a:ext cx="0" cy="18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Line 16"/>
              <p:cNvSpPr/>
              <p:nvPr/>
            </p:nvSpPr>
            <p:spPr>
              <a:xfrm>
                <a:off x="5511600" y="29552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Line 17"/>
              <p:cNvSpPr/>
              <p:nvPr/>
            </p:nvSpPr>
            <p:spPr>
              <a:xfrm>
                <a:off x="6193080" y="295524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8" name="Rectangle 18"/>
            <p:cNvSpPr/>
            <p:nvPr/>
          </p:nvSpPr>
          <p:spPr>
            <a:xfrm>
              <a:off x="1664280" y="1981080"/>
              <a:ext cx="5345640" cy="190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Text Box 19"/>
            <p:cNvSpPr/>
            <p:nvPr/>
          </p:nvSpPr>
          <p:spPr>
            <a:xfrm>
              <a:off x="3490920" y="1981080"/>
              <a:ext cx="275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iving Force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Text Box 20"/>
            <p:cNvSpPr/>
            <p:nvPr/>
          </p:nvSpPr>
          <p:spPr>
            <a:xfrm>
              <a:off x="3302280" y="3594960"/>
              <a:ext cx="232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training Force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Text Box 22"/>
            <p:cNvSpPr/>
            <p:nvPr/>
          </p:nvSpPr>
          <p:spPr>
            <a:xfrm>
              <a:off x="457200" y="2715840"/>
              <a:ext cx="112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rrent Situation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2" name="Text Box 24"/>
          <p:cNvSpPr/>
          <p:nvPr/>
        </p:nvSpPr>
        <p:spPr>
          <a:xfrm>
            <a:off x="1523880" y="4038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Identify the current state of the situation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1523880" y="43434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Envision the desired stat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1523880" y="464832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Identify the forces restraining chang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1523880" y="49528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Identify the forces that support or encourage chang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1523880" y="5257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 Assess the strength of the forces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29"/>
          <p:cNvSpPr/>
          <p:nvPr/>
        </p:nvSpPr>
        <p:spPr>
          <a:xfrm>
            <a:off x="1523880" y="556272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 Develop strategies 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30"/>
          <p:cNvSpPr/>
          <p:nvPr/>
        </p:nvSpPr>
        <p:spPr>
          <a:xfrm>
            <a:off x="2362320" y="57913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he forces restraining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2362320" y="601992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the forces for change (or capitalize on existing drivers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9:28:52Z</dcterms:created>
  <dc:creator>user</dc:creator>
  <dc:description/>
  <dc:language>en-US</dc:language>
  <cp:lastModifiedBy>Mami</cp:lastModifiedBy>
  <dcterms:modified xsi:type="dcterms:W3CDTF">2009-07-17T21:24:21Z</dcterms:modified>
  <cp:revision>127</cp:revision>
  <dc:subject/>
  <dc:title>No Trait and Treatment Interaction</dc:title>
</cp:coreProperties>
</file>